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5EE32-4FA2-4BDC-AB35-753B129E7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47400" y="694800"/>
            <a:ext cx="4514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164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9160"/>
            <a:ext cx="5794200" cy="355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700" spc="-1" strike="noStrike">
                <a:solidFill>
                  <a:srgbClr val="000000"/>
                </a:solidFill>
                <a:latin typeface="Sego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egoe"/>
                <a:ea typeface="Arial"/>
              </a:rPr>
              <a:t>© 2004 Microsoft Corporation. All rights reserved.</a:t>
            </a:r>
            <a:endParaRPr b="0" lang="en-US" sz="700" spc="-1" strike="noStrike">
              <a:solidFill>
                <a:srgbClr val="000000"/>
              </a:solidFill>
              <a:latin typeface="Segoe Semibol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egoe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700" spc="-1" strike="noStrike">
              <a:solidFill>
                <a:srgbClr val="000000"/>
              </a:solidFill>
              <a:latin typeface="Segoe Semi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5707080" y="8827560"/>
            <a:ext cx="130176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5D3E4-5DC7-4E24-8D8A-CABCE09E1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707080" y="8827920"/>
            <a:ext cx="1301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B4054-EB7C-41D4-BD48-102BA5256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676520" y="774720"/>
            <a:ext cx="4870440" cy="3762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64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921852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0480" y="4295160"/>
            <a:ext cx="921852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4400" y="180972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0480" y="429516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0" y="429516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296820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7360" y="1809720"/>
            <a:ext cx="296820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54600" y="1809720"/>
            <a:ext cx="296820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0480" y="4295160"/>
            <a:ext cx="296820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7360" y="4295160"/>
            <a:ext cx="296820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54600" y="4295160"/>
            <a:ext cx="296820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0480" y="1809720"/>
            <a:ext cx="9218520" cy="475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9218520" cy="475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4498560" cy="475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4400" y="1809720"/>
            <a:ext cx="4498560" cy="475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0480" y="696600"/>
            <a:ext cx="9218520" cy="683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4400" y="1809720"/>
            <a:ext cx="4498560" cy="475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0480" y="429516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4498560" cy="475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4400" y="180972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0" y="429516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0" y="1809720"/>
            <a:ext cx="449856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0480" y="4295160"/>
            <a:ext cx="9218520" cy="2269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Yellow Rectangular Gradient"/>
          <p:cNvPicPr/>
          <p:nvPr/>
        </p:nvPicPr>
        <p:blipFill>
          <a:blip r:embed="rId3"/>
          <a:stretch/>
        </p:blipFill>
        <p:spPr>
          <a:xfrm>
            <a:off x="0" y="812880"/>
            <a:ext cx="10058400" cy="695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47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0480" y="1809720"/>
            <a:ext cx="9218520" cy="475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79440" indent="-379440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lvl="1" marL="760320" indent="-377640">
              <a:lnSpc>
                <a:spcPct val="90000"/>
              </a:lnSpc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lvl="2" marL="1139760" indent="-377640">
              <a:lnSpc>
                <a:spcPct val="90000"/>
              </a:lnSpc>
              <a:spcBef>
                <a:spcPts val="15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lvl="3" marL="1519200" indent="-376200">
              <a:lnSpc>
                <a:spcPct val="90000"/>
              </a:lnSpc>
              <a:spcBef>
                <a:spcPts val="15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lvl="4" marL="1898640" indent="-377640">
              <a:lnSpc>
                <a:spcPct val="90000"/>
              </a:lnSpc>
              <a:spcBef>
                <a:spcPts val="15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lvl="5" marL="1898640" indent="-377640">
              <a:lnSpc>
                <a:spcPct val="90000"/>
              </a:lnSpc>
              <a:spcBef>
                <a:spcPts val="157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lvl="6" marL="1898640" indent="-377640">
              <a:lnSpc>
                <a:spcPct val="90000"/>
              </a:lnSpc>
              <a:spcBef>
                <a:spcPts val="1576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1080" y="7413480"/>
            <a:ext cx="1467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www.mspu.us</a:t>
            </a:r>
            <a:endParaRPr b="0" lang="en-US" sz="1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3587400" y="7431120"/>
            <a:ext cx="30117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6 Intelligent Enterprise, Inc.</a:t>
            </a:r>
            <a:endParaRPr b="0" lang="en-US" sz="1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128520" y="7356600"/>
            <a:ext cx="1327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B97-268F-4122-8529-0A39E180646D}" type="slidenum"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849400"/>
            <a:ext cx="9601200" cy="1378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b601"/>
                </a:solidFill>
                <a:latin typeface="Segoe Semibold"/>
              </a:rPr>
              <a:t>5 Easy Ways to Save $$$ With Technology</a:t>
            </a:r>
            <a:br>
              <a:rPr sz="3800"/>
            </a:br>
            <a:r>
              <a:rPr b="0" i="1" lang="en-US" sz="2200" spc="-1" strike="noStrike">
                <a:solidFill>
                  <a:srgbClr val="ffb601"/>
                </a:solidFill>
                <a:latin typeface="Segoe Semibold"/>
              </a:rPr>
              <a:t>-or-</a:t>
            </a:r>
            <a:br>
              <a:rPr sz="3800"/>
            </a:br>
            <a:r>
              <a:rPr b="0" i="1" lang="en-US" sz="3200" spc="-1" strike="noStrike">
                <a:solidFill>
                  <a:srgbClr val="ffb601"/>
                </a:solidFill>
                <a:latin typeface="Segoe Semibold"/>
              </a:rPr>
              <a:t>How to Immediately Improve Your Bottom Line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690480"/>
            <a:ext cx="9220320" cy="789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1. Flat-Rate I.T. Services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20840" y="1809720"/>
            <a:ext cx="92185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1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upport and maintain your entire Organization Remotely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Phone Suppor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3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Remote Assistance (Desktop Sharing)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4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Live Meeting (Online Collaboration)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5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tate-Of-The-Art Trouble-Ticketing System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6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utomated Escalation Proces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7"/>
              </a:buBlip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Onsite Support As Need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All for One Fixed Monthly Cost!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78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2. Managed Services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9218520" cy="5910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24x7x365 Network Monitoring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Over 255 Events/Services Monitored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ritical Services Automatically Restarted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Immediate Alerting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utomated Trouble-Ticket Generation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utomated Escalation Proces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Proactiv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no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Reactive</a:t>
            </a:r>
            <a:br>
              <a:rPr sz="3200"/>
            </a:b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Insures Maximum Uptime for Critical Equipmen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78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3. Vendor Management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9218520" cy="579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79440" indent="-37944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Segoe Semibold"/>
              </a:rPr>
              <a:t>Our Most Popular $$$-Saving Service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Manage all Vendor Relationships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60320" indent="-37764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Phone and Internet Service and Provider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All Voice or Data Network-Connected Equipment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60320" indent="-37764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Phone System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lvl="1" marL="760320" indent="-37764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Faxe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lvl="1" marL="760320" indent="-37764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Scanner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lvl="1" marL="760320" indent="-37764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Semibold"/>
              </a:rPr>
              <a:t>Copier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Proprietary Software Application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0" algn="ctr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Segoe Semibold"/>
              </a:rPr>
              <a:t>Frees You to Focus on Running Your Business – </a:t>
            </a:r>
            <a:br>
              <a:rPr sz="2600"/>
            </a:b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Segoe Semibold"/>
              </a:rPr>
              <a:t>Not Your Vendors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78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4. Professional Services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0480" y="1809360"/>
            <a:ext cx="9218520" cy="5149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Technology Solution Design and Developm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oof-of-Concept Lab Testing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Onsite Implementation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oject Managem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Disaster Recovery Planning and Respons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Intrusion Detection and Security Testing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ecure Point-to-Point VPN Desig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-379440">
              <a:lnSpc>
                <a:spcPct val="90000"/>
              </a:lnSpc>
              <a:spcBef>
                <a:spcPts val="1225"/>
              </a:spcBef>
              <a:buSzPct val="1321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egoe Semibold"/>
              </a:rPr>
              <a:t>Co-Location Services for High-Availability Service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egoe Semi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379440" indent="0" algn="ctr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Segoe Semibold"/>
              </a:rPr>
              <a:t>We Create a Technology Plan that Serves Your Mission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1145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b601"/>
                </a:solidFill>
                <a:latin typeface="Segoe Semibold"/>
              </a:rPr>
              <a:t>5. Software and Application Development</a:t>
            </a:r>
            <a:endParaRPr b="0" lang="en-US" sz="3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0480" y="1809360"/>
            <a:ext cx="9218520" cy="5115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5480" indent="-37548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ustom Database Design and Maintenanc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ustom Application Developmen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Web-Enabling Application Service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Legacy Application Rewrite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ustom Report Generation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400"/>
              </a:spcBef>
              <a:buSzPct val="11565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Hosting Services for High Availabil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Segoe Semibold"/>
              </a:rPr>
              <a:t>Existing Data Migration to New Application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Yellow Rectangular Gradient"/>
          <p:cNvPicPr/>
          <p:nvPr/>
        </p:nvPicPr>
        <p:blipFill>
          <a:blip r:embed="rId1"/>
          <a:stretch/>
        </p:blipFill>
        <p:spPr>
          <a:xfrm>
            <a:off x="0" y="812880"/>
            <a:ext cx="10058400" cy="4118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 rot="16200000">
            <a:off x="-1338480" y="3089520"/>
            <a:ext cx="32032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Business Servic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62" name="Picture 5" descr="blue disc embossed"/>
          <p:cNvPicPr/>
          <p:nvPr/>
        </p:nvPicPr>
        <p:blipFill>
          <a:blip r:embed="rId2"/>
          <a:stretch/>
        </p:blipFill>
        <p:spPr>
          <a:xfrm>
            <a:off x="4894200" y="2952720"/>
            <a:ext cx="2683080" cy="276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lue disc embossed"/>
          <p:cNvPicPr/>
          <p:nvPr/>
        </p:nvPicPr>
        <p:blipFill>
          <a:blip r:embed="rId3"/>
          <a:stretch/>
        </p:blipFill>
        <p:spPr>
          <a:xfrm>
            <a:off x="2716200" y="2952720"/>
            <a:ext cx="2681280" cy="276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lue disc embossed"/>
          <p:cNvPicPr/>
          <p:nvPr/>
        </p:nvPicPr>
        <p:blipFill>
          <a:blip r:embed="rId4"/>
          <a:stretch/>
        </p:blipFill>
        <p:spPr>
          <a:xfrm>
            <a:off x="3738600" y="1138320"/>
            <a:ext cx="2682720" cy="276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3-00683_GREENCircles"/>
          <p:cNvPicPr/>
          <p:nvPr/>
        </p:nvPicPr>
        <p:blipFill>
          <a:blip r:embed="rId5"/>
          <a:stretch/>
        </p:blipFill>
        <p:spPr>
          <a:xfrm>
            <a:off x="3821040" y="238284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 flipH="1">
            <a:off x="7538400" y="3646440"/>
            <a:ext cx="2259000" cy="1258920"/>
          </a:xfrm>
          <a:prstGeom prst="rect">
            <a:avLst/>
          </a:prstGeom>
          <a:solidFill>
            <a:srgbClr val="1c29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600" spc="-1" strike="noStrike">
              <a:solidFill>
                <a:srgbClr val="ffffff"/>
              </a:solidFill>
              <a:latin typeface="Segoe Semibold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ution Design, Project Management, On-Site Implementation. On-Site Response Services. 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35880" y="4727520"/>
            <a:ext cx="2262240" cy="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400" bIns="-504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7043040" y="3646440"/>
            <a:ext cx="498600" cy="49680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7527960" y="3643200"/>
            <a:ext cx="2270160" cy="792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42840" bIns="-428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473040" y="1728720"/>
            <a:ext cx="2954520" cy="715680"/>
          </a:xfrm>
          <a:prstGeom prst="rect">
            <a:avLst/>
          </a:prstGeom>
          <a:solidFill>
            <a:srgbClr val="1c29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 algn="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600" spc="-1" strike="noStrike">
              <a:solidFill>
                <a:srgbClr val="ffffff"/>
              </a:solidFill>
              <a:latin typeface="Segoe Semibold"/>
            </a:endParaRPr>
          </a:p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 Support, Remote Assistance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473040" y="2252520"/>
            <a:ext cx="2954520" cy="2232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28440" bIns="-28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473040" y="1725480"/>
            <a:ext cx="3625920" cy="111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39600" bIns="-396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419040" y="3591000"/>
            <a:ext cx="2332080" cy="1258920"/>
          </a:xfrm>
          <a:prstGeom prst="rect">
            <a:avLst/>
          </a:prstGeom>
          <a:solidFill>
            <a:srgbClr val="1c29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 algn="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600" spc="-1" strike="noStrike">
              <a:solidFill>
                <a:srgbClr val="ffffff"/>
              </a:solidFill>
              <a:latin typeface="Segoe Semibold"/>
            </a:endParaRPr>
          </a:p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ssion-Critical Monitoring. Servers, Routers, Switches, Line-of-Business Applications 24x7x365 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419040" y="4683240"/>
            <a:ext cx="2332080" cy="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400" bIns="-504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2751120" y="3594240"/>
            <a:ext cx="601560" cy="50292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419040" y="3594240"/>
            <a:ext cx="2332080" cy="360"/>
          </a:xfrm>
          <a:prstGeom prst="line">
            <a:avLst/>
          </a:prstGeom>
          <a:noFill/>
          <a:ln w="28440">
            <a:solidFill>
              <a:srgbClr val="ff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400" bIns="-504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4427280" y="1622520"/>
            <a:ext cx="13752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20520" bIns="20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Flat-Rat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I.T. Servic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4384800" y="2509920"/>
            <a:ext cx="14378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20520" bIns="20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Vendor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5616720" y="4079880"/>
            <a:ext cx="139536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20520" bIns="2052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052800" y="4057560"/>
            <a:ext cx="18432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20520" bIns="20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Managed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Rectangle 29"/>
          <p:cNvSpPr/>
          <p:nvPr/>
        </p:nvSpPr>
        <p:spPr>
          <a:xfrm flipH="1">
            <a:off x="6838920" y="1735200"/>
            <a:ext cx="2549520" cy="1077840"/>
          </a:xfrm>
          <a:prstGeom prst="rect">
            <a:avLst/>
          </a:prstGeom>
          <a:solidFill>
            <a:srgbClr val="1c29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93"/>
                </a:solidFill>
                <a:latin typeface="Arial"/>
              </a:rPr>
              <a:t>Solution Categories:</a:t>
            </a:r>
            <a:endParaRPr b="0" lang="en-US" sz="1600" spc="-1" strike="noStrike">
              <a:solidFill>
                <a:srgbClr val="ffffff"/>
              </a:solidFill>
              <a:latin typeface="Segoe Semibold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 all Technology Relationships. Single point of contact for all Vendor issues.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2" name="Line 30"/>
          <p:cNvSpPr/>
          <p:nvPr/>
        </p:nvSpPr>
        <p:spPr>
          <a:xfrm flipH="1">
            <a:off x="6842880" y="2603520"/>
            <a:ext cx="2543400" cy="414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9360" bIns="-9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3" name="Line 31"/>
          <p:cNvSpPr/>
          <p:nvPr/>
        </p:nvSpPr>
        <p:spPr>
          <a:xfrm flipH="1">
            <a:off x="5635080" y="1731960"/>
            <a:ext cx="873000" cy="944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4" name="Line 32"/>
          <p:cNvSpPr/>
          <p:nvPr/>
        </p:nvSpPr>
        <p:spPr>
          <a:xfrm flipH="1">
            <a:off x="6525360" y="1725480"/>
            <a:ext cx="2838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400" bIns="-504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85" name="Picture 34" descr="Yellow Rectangular Gradient"/>
          <p:cNvPicPr/>
          <p:nvPr/>
        </p:nvPicPr>
        <p:blipFill>
          <a:blip r:embed="rId6"/>
          <a:stretch/>
        </p:blipFill>
        <p:spPr>
          <a:xfrm>
            <a:off x="-84240" y="6534000"/>
            <a:ext cx="10142640" cy="1238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8"/>
          <p:cNvSpPr/>
          <p:nvPr/>
        </p:nvSpPr>
        <p:spPr>
          <a:xfrm rot="16200000">
            <a:off x="-345960" y="6954840"/>
            <a:ext cx="11296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87" name="Picture 40" descr="Yellow Rectangular Gradient"/>
          <p:cNvPicPr/>
          <p:nvPr/>
        </p:nvPicPr>
        <p:blipFill>
          <a:blip r:embed="rId7"/>
          <a:stretch/>
        </p:blipFill>
        <p:spPr>
          <a:xfrm>
            <a:off x="0" y="5033880"/>
            <a:ext cx="10058400" cy="1468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2"/>
          <p:cNvSpPr/>
          <p:nvPr/>
        </p:nvSpPr>
        <p:spPr>
          <a:xfrm rot="16200000">
            <a:off x="-484560" y="5452560"/>
            <a:ext cx="15256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Client and 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601"/>
                </a:solidFill>
                <a:latin typeface="Arial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9" name="Rectangle 59"/>
          <p:cNvSpPr/>
          <p:nvPr/>
        </p:nvSpPr>
        <p:spPr>
          <a:xfrm>
            <a:off x="714240" y="5810400"/>
            <a:ext cx="26164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entify where $$$ is being lost 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0" name="Rectangle 60"/>
          <p:cNvSpPr/>
          <p:nvPr/>
        </p:nvSpPr>
        <p:spPr>
          <a:xfrm>
            <a:off x="3670200" y="5807160"/>
            <a:ext cx="26164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design business processes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1" name="Rectangle 61"/>
          <p:cNvSpPr/>
          <p:nvPr/>
        </p:nvSpPr>
        <p:spPr>
          <a:xfrm>
            <a:off x="6564240" y="5807160"/>
            <a:ext cx="34527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 algn="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ze Technology to improve efficiencies</a:t>
            </a:r>
            <a:endParaRPr b="0" lang="en-US" sz="1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2" name="Rectangle 62"/>
          <p:cNvSpPr/>
          <p:nvPr/>
        </p:nvSpPr>
        <p:spPr>
          <a:xfrm>
            <a:off x="3701880" y="6075360"/>
            <a:ext cx="2616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1880" tIns="51120" bIns="51120" anchor="t">
            <a:spAutoFit/>
          </a:bodyPr>
          <a:p>
            <a:pPr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ve $$$!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2240" y="469800"/>
            <a:ext cx="9626400" cy="78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360° Service View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grpSp>
        <p:nvGrpSpPr>
          <p:cNvPr id="94" name="Group 78"/>
          <p:cNvGrpSpPr/>
          <p:nvPr/>
        </p:nvGrpSpPr>
        <p:grpSpPr>
          <a:xfrm>
            <a:off x="447840" y="6773760"/>
            <a:ext cx="9348120" cy="860040"/>
            <a:chOff x="447840" y="6773760"/>
            <a:chExt cx="9348120" cy="860040"/>
          </a:xfrm>
        </p:grpSpPr>
        <p:sp>
          <p:nvSpPr>
            <p:cNvPr id="95" name="Rectangle 79"/>
            <p:cNvSpPr/>
            <p:nvPr/>
          </p:nvSpPr>
          <p:spPr>
            <a:xfrm>
              <a:off x="447840" y="6773760"/>
              <a:ext cx="9348120" cy="802440"/>
            </a:xfrm>
            <a:prstGeom prst="rect">
              <a:avLst/>
            </a:prstGeom>
            <a:solidFill>
              <a:srgbClr val="faf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Semibold"/>
              </a:endParaRPr>
            </a:p>
          </p:txBody>
        </p:sp>
        <p:grpSp>
          <p:nvGrpSpPr>
            <p:cNvPr id="96" name="Group 80"/>
            <p:cNvGrpSpPr/>
            <p:nvPr/>
          </p:nvGrpSpPr>
          <p:grpSpPr>
            <a:xfrm>
              <a:off x="536760" y="6775200"/>
              <a:ext cx="9173160" cy="858600"/>
              <a:chOff x="536760" y="6775200"/>
              <a:chExt cx="9173160" cy="858600"/>
            </a:xfrm>
          </p:grpSpPr>
          <p:pic>
            <p:nvPicPr>
              <p:cNvPr id="97" name="citrixLogo" descr="Citrix Systems"/>
              <p:cNvPicPr/>
              <p:nvPr/>
            </p:nvPicPr>
            <p:blipFill>
              <a:blip r:embed="rId8"/>
              <a:stretch/>
            </p:blipFill>
            <p:spPr>
              <a:xfrm>
                <a:off x="4712040" y="6775200"/>
                <a:ext cx="943920" cy="85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82" descr="Cisco Systems, Inc.(R)"/>
              <p:cNvPicPr/>
              <p:nvPr/>
            </p:nvPicPr>
            <p:blipFill>
              <a:blip r:embed="rId9"/>
              <a:stretch/>
            </p:blipFill>
            <p:spPr>
              <a:xfrm>
                <a:off x="5740560" y="6784200"/>
                <a:ext cx="907560" cy="70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83" descr="bizpartnrlogo"/>
              <p:cNvPicPr/>
              <p:nvPr/>
            </p:nvPicPr>
            <p:blipFill>
              <a:blip r:embed="rId10"/>
              <a:stretch/>
            </p:blipFill>
            <p:spPr>
              <a:xfrm>
                <a:off x="6854040" y="6784560"/>
                <a:ext cx="834840" cy="72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Group 84"/>
              <p:cNvGrpSpPr/>
              <p:nvPr/>
            </p:nvGrpSpPr>
            <p:grpSpPr>
              <a:xfrm>
                <a:off x="536760" y="6940080"/>
                <a:ext cx="4011840" cy="622440"/>
                <a:chOff x="536760" y="6940080"/>
                <a:chExt cx="4011840" cy="622440"/>
              </a:xfrm>
            </p:grpSpPr>
            <p:pic>
              <p:nvPicPr>
                <p:cNvPr id="101" name="Picture 85" descr="Microsoft%20Competency%20Logo[1]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36760" y="6940080"/>
                  <a:ext cx="2819520" cy="48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86" descr="microsoft_cert_partnr[1]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647160" y="6940080"/>
                  <a:ext cx="901440" cy="62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Line 87"/>
                <p:cNvSpPr/>
                <p:nvPr/>
              </p:nvSpPr>
              <p:spPr>
                <a:xfrm>
                  <a:off x="3468240" y="6943680"/>
                  <a:ext cx="0" cy="474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360" rIns="3636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Segoe Semibold"/>
                  </a:endParaRPr>
                </a:p>
              </p:txBody>
            </p:sp>
          </p:grpSp>
          <p:pic>
            <p:nvPicPr>
              <p:cNvPr id="104" name="Picture 88" descr="masthead_dell3[1]"/>
              <p:cNvPicPr/>
              <p:nvPr/>
            </p:nvPicPr>
            <p:blipFill>
              <a:blip r:embed="rId13"/>
              <a:stretch/>
            </p:blipFill>
            <p:spPr>
              <a:xfrm>
                <a:off x="7931160" y="7025400"/>
                <a:ext cx="68976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89" descr="wtglogotop[1]"/>
              <p:cNvPicPr/>
              <p:nvPr/>
            </p:nvPicPr>
            <p:blipFill>
              <a:blip r:embed="rId14"/>
              <a:stretch/>
            </p:blipFill>
            <p:spPr>
              <a:xfrm>
                <a:off x="8819640" y="6999840"/>
                <a:ext cx="890280" cy="33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" name="Picture 23" descr="3-00683_center"/>
          <p:cNvPicPr/>
          <p:nvPr/>
        </p:nvPicPr>
        <p:blipFill>
          <a:blip r:embed="rId15"/>
          <a:stretch/>
        </p:blipFill>
        <p:spPr>
          <a:xfrm>
            <a:off x="3805200" y="2952720"/>
            <a:ext cx="2514600" cy="219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0480" y="696600"/>
            <a:ext cx="9218520" cy="78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b601"/>
                </a:solidFill>
                <a:latin typeface="Segoe Semibold"/>
              </a:rPr>
              <a:t>Cost-Saving Services</a:t>
            </a:r>
            <a:endParaRPr b="0" lang="en-US" sz="5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0480" y="1809720"/>
            <a:ext cx="9218520" cy="555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5480" indent="-37548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Flat-Rate I.T. Services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52400" indent="-37368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egoe Semibold"/>
              </a:rPr>
              <a:t>Immediate I.T. Saving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Managed Services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52400" indent="-37368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egoe Semibold"/>
              </a:rPr>
              <a:t>Proactive Monitoring for Long-Term Savings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Vendor Management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52400" indent="-37368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egoe Semibold"/>
              </a:rPr>
              <a:t>Immediate Impact to the Bottom Line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Professional Services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52400" indent="-373680">
              <a:lnSpc>
                <a:spcPct val="90000"/>
              </a:lnSpc>
              <a:spcBef>
                <a:spcPts val="964"/>
              </a:spcBef>
              <a:buSzPct val="1272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egoe Semibold"/>
              </a:rPr>
              <a:t>We get it right the First Time, Every Time</a:t>
            </a:r>
            <a:endParaRPr b="0" lang="en-US" sz="22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-375480">
              <a:lnSpc>
                <a:spcPct val="90000"/>
              </a:lnSpc>
              <a:spcBef>
                <a:spcPts val="1137"/>
              </a:spcBef>
              <a:buSzPct val="1423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Semibold"/>
              </a:rPr>
              <a:t>Software and Application Development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  <a:p>
            <a:pPr lvl="1" marL="752400" indent="-373680">
              <a:lnSpc>
                <a:spcPct val="90000"/>
              </a:lnSpc>
              <a:spcBef>
                <a:spcPts val="788"/>
              </a:spcBef>
              <a:buSzPct val="1272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egoe Semibold"/>
              </a:rPr>
              <a:t>Eliminate Redundant Data Entry and Improve Efficiency</a:t>
            </a:r>
            <a:br>
              <a:rPr sz="22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75480" indent="0" algn="ctr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Segoe Semibold"/>
              </a:rPr>
              <a:t>You Can’t Afford Not to Start Saving $$$ With Us!</a:t>
            </a:r>
            <a:endParaRPr b="0" lang="en-US" sz="26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21:07:52Z</dcterms:created>
  <dc:creator/>
  <dc:description/>
  <dc:language>en-US</dc:language>
  <cp:lastModifiedBy>Erick Simpson</cp:lastModifiedBy>
  <dcterms:modified xsi:type="dcterms:W3CDTF">2007-03-14T23:57:32Z</dcterms:modified>
  <cp:revision>80</cp:revision>
  <dc:subject/>
  <dc:title>Managed Services Client Presentation</dc:title>
</cp:coreProperties>
</file>